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C09-EB8B-4DEA-BB80-B850A42B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9F1-E3E2-4034-8DA1-DDDC69F5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945-CD75-40B1-8FD0-6A4920EC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AF0-7AD4-4D9D-818E-345E0EE6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96C-DB67-4E51-BEB4-113863A1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462-5987-4476-9213-C7D876C6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7D5-1243-47CD-B370-A564F74C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3AD1-A065-4D1C-856D-688DA5BD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41B-3F76-46E4-8F41-3198E101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1EBC-4880-4292-A092-53F38DBE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156-C3FA-4E06-8C91-31621729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060-1366-4FA3-8991-67902D0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B1F3-A927-4A4D-BC83-70E372B3E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04920" y="0"/>
            <a:ext cx="472464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مَن أحيانا بالموتِ صلب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إقبل موتانا في دارِ الخُل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غيثَ المراحم أَسبِغ عليه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يا خيرَ راحم يا بحرَ الجو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فليستنيروا مِنْ نورِ وجهِ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ولَيستريحوا مَع مَنْ</a:t>
            </a:r>
            <a:r>
              <a:rPr b="1" lang="ar-SA" sz="4000" spc="-1" strike="noStrike">
                <a:solidFill>
                  <a:srgbClr val="ffff66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66"/>
                </a:solidFill>
                <a:latin typeface="Arial"/>
                <a:cs typeface="Simplified Arabic"/>
              </a:rPr>
              <a:t>أرضَو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40400" y="152280"/>
            <a:ext cx="4503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9:43:33Z</dcterms:created>
  <dc:creator>HANI SAFI</dc:creator>
  <dc:description/>
  <dc:language>en-US</dc:language>
  <cp:lastModifiedBy>HANI SAFI</cp:lastModifiedBy>
  <dcterms:modified xsi:type="dcterms:W3CDTF">2003-04-10T10:32:56Z</dcterms:modified>
  <cp:revision>2</cp:revision>
  <dc:subject/>
  <dc:title>Slide 1</dc:title>
</cp:coreProperties>
</file>